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949-3945-46BB-A67A-FD70CBEAC7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2AAB-78CA-4A18-8053-7A900EE38C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AF6-B658-469F-87AF-6D218FA71E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BD2-74B4-4FC1-A817-49A0AFC4B7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ECD4-38F0-458A-A837-08F44626BD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6489-BA12-4751-A0F0-802F26C0D7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CDE-093A-45B9-BA65-EEB7352BAB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F44C-C8BE-4BCB-900B-C7244454F6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2CED-2662-404C-A873-59C96B9ADB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6EF0-FB1B-4F5E-9CF5-1491DFBA49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1AB5-4CB3-4FA9-9005-AE616CAFB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4B8-79FE-494C-9799-4907B83BDA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FBA-C733-404E-AE6C-AC8C03142B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427-5D4D-4C46-8923-7B867B7198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249-18E6-4331-8FFD-8BC212625E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417-0537-4B09-B710-190569455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E50-3725-45BD-B75C-36AB36CD61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BDA3-DF3F-4DD4-84C4-026F91BD48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3D0-D4B0-4E50-BAC7-4FAF7C083E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EA00-BA47-44F8-A103-859B784DC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29F-CF0D-4CD1-A9D6-3631ABF6F0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380-EB95-4CD5-A58F-50EAB2DB28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76F-07C1-4CB6-8A72-B585452430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966-994E-4DEB-9F83-E31E06FE33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56A-E867-4892-8099-CA4052545C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DD7C-F61D-4537-AA10-D5466AA27D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010-F49F-41A1-807A-B3C1C5F8B9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D7F-AA88-4050-98DD-4CA4D7F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A0A-7918-47E2-9E05-600BBF5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5FC-6EBE-48A8-923E-BFDCC11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1CF-4049-4EE8-9A80-1E06A72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4D6-934D-4F7E-920A-142D1ED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B55-6136-4B2E-94A6-225A5A7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7FB-DC22-4B14-9AE6-06F2760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C04-A410-45FF-A335-81F94C03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547-4179-4CB2-B713-BFB39CB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C8F-23AE-4833-A1DD-073B1EC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FB0-02A8-47CB-9DAB-156A656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9EC-3519-4D7B-B05E-897909B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B985-AA4A-4B69-AA16-2832071DA9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79149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Biochemical Aspects of </a:t>
            </a:r>
            <a:br>
              <a:rPr sz="4000"/>
            </a:br>
            <a:r>
              <a:rPr b="1" lang="en-GB" sz="4800" spc="-1" strike="noStrike">
                <a:solidFill>
                  <a:srgbClr val="ff0000"/>
                </a:solidFill>
                <a:latin typeface="Calibri"/>
              </a:rPr>
              <a:t>OBES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66960" y="3929040"/>
            <a:ext cx="2043000" cy="642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ENDO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Environmental &amp; Behavioural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ntributions to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Environmental &amp; behavioural factors explain the epidemic of obesity over the last deca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(as genetic  factor are stable on this short time sca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Environmental factors</a:t>
            </a:r>
            <a:r>
              <a:rPr b="0" lang="en-GB" sz="25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Ready availability of palatable energy-dense fo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Sedentary life-style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: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TV watching for a long 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Wide dependency on ca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Computer us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Energy-sparing devices at home &amp; at 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Decrease physical ac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Eating behavioural factors</a:t>
            </a:r>
            <a:r>
              <a:rPr b="0" lang="en-GB" sz="2500" spc="-1" strike="noStrike">
                <a:solidFill>
                  <a:srgbClr val="ff0000"/>
                </a:solidFill>
                <a:latin typeface="Calibri"/>
              </a:rPr>
              <a:t>: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Snac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Portion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Individual`s unique food preferenc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Number of people with whom one ea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olecules that Influence Obe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fferent  signals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reach the hypothalamus: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Neural Sig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- Hormones circulating in bl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- Metabo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ypothalamus releases </a:t>
            </a: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efferent signals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(peptides)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hat influence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appetite &amp; energy expendi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sherif\Desktop\sherif.folder\Lippincot JPG pictures\c26\26_007.jpg"/>
          <p:cNvPicPr/>
          <p:nvPr/>
        </p:nvPicPr>
        <p:blipFill>
          <a:blip r:embed="rId1"/>
          <a:stretch/>
        </p:blipFill>
        <p:spPr>
          <a:xfrm>
            <a:off x="1928880" y="642960"/>
            <a:ext cx="5286240" cy="5489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4"/>
          <p:cNvCxnSpPr/>
          <p:nvPr/>
        </p:nvCxnSpPr>
        <p:spPr>
          <a:xfrm>
            <a:off x="2500200" y="3214800"/>
            <a:ext cx="1215360" cy="21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75" name="TextBox 6"/>
          <p:cNvSpPr/>
          <p:nvPr/>
        </p:nvSpPr>
        <p:spPr>
          <a:xfrm>
            <a:off x="357120" y="3000240"/>
            <a:ext cx="250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dip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LEPTIN</a:t>
            </a:r>
            <a:br>
              <a:rPr sz="2000"/>
            </a:b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RESISTIN</a:t>
            </a:r>
            <a:br>
              <a:rPr sz="2000"/>
            </a:b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ADIPONE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92360" y="20718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GHRE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9"/>
          <p:cNvCxnSpPr/>
          <p:nvPr/>
        </p:nvCxnSpPr>
        <p:spPr>
          <a:xfrm>
            <a:off x="2428920" y="2499840"/>
            <a:ext cx="2358000" cy="78660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78" name="TextBox 7"/>
          <p:cNvSpPr/>
          <p:nvPr/>
        </p:nvSpPr>
        <p:spPr>
          <a:xfrm>
            <a:off x="725040" y="428760"/>
            <a:ext cx="1750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rcu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ec2"/>
                </a:solidFill>
                <a:latin typeface="Arial"/>
              </a:rPr>
              <a:t>INS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ec2"/>
                </a:solidFill>
                <a:latin typeface="Arial"/>
              </a:rPr>
              <a:t>C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512640" y="4500720"/>
            <a:ext cx="2428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erves &amp;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DOP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SEROTO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22"/>
          <p:cNvCxnSpPr/>
          <p:nvPr/>
        </p:nvCxnSpPr>
        <p:spPr>
          <a:xfrm>
            <a:off x="2500200" y="856800"/>
            <a:ext cx="1572480" cy="171540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cxnSp>
        <p:nvCxnSpPr>
          <p:cNvPr id="81" name="Straight Arrow Connector 24"/>
          <p:cNvCxnSpPr/>
          <p:nvPr/>
        </p:nvCxnSpPr>
        <p:spPr>
          <a:xfrm flipV="1">
            <a:off x="2714400" y="4285440"/>
            <a:ext cx="929160" cy="5007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cxnSp>
        <p:nvCxnSpPr>
          <p:cNvPr id="82" name="Straight Arrow Connector 27"/>
          <p:cNvCxnSpPr/>
          <p:nvPr/>
        </p:nvCxnSpPr>
        <p:spPr>
          <a:xfrm>
            <a:off x="2642760" y="4857840"/>
            <a:ext cx="857880" cy="21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83" name="TextBox 28"/>
          <p:cNvSpPr/>
          <p:nvPr/>
        </p:nvSpPr>
        <p:spPr>
          <a:xfrm rot="16200000">
            <a:off x="-1994400" y="3066120"/>
            <a:ext cx="4929120" cy="368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AFFRENTS (to hypo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 rot="16200000">
            <a:off x="4148640" y="3423240"/>
            <a:ext cx="4929120" cy="368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EFFRENTS (from  hypo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31"/>
          <p:cNvCxnSpPr/>
          <p:nvPr/>
        </p:nvCxnSpPr>
        <p:spPr>
          <a:xfrm flipH="1">
            <a:off x="5715000" y="2214720"/>
            <a:ext cx="643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Hormones of Adipose T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Fat Cel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(Adipocytes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Store f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Function as Endocrine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Release Many Regulatory 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as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Leptin, Adiponectin &amp; Resi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5"/>
          <p:cNvSpPr/>
          <p:nvPr/>
        </p:nvSpPr>
        <p:spPr>
          <a:xfrm>
            <a:off x="3429000" y="4714920"/>
            <a:ext cx="22860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Lep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Leptin is the hormone product of the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gene 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Secreted by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fat cells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(adipocy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Produced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proportionally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to adipose m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Acts on the hypothalamus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of the brain to regulate the amount of body fat through the control of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appetite  &amp; energy expendi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Leptin secretion is :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Suppressed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by sta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                                         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Enhanced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 by well-fed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sherif\Desktop\sherif.folder\Lippincot JPG pictures\c26\26_008.jpg"/>
          <p:cNvPicPr/>
          <p:nvPr/>
        </p:nvPicPr>
        <p:blipFill>
          <a:blip r:embed="rId1"/>
          <a:stretch/>
        </p:blipFill>
        <p:spPr>
          <a:xfrm>
            <a:off x="1214280" y="4429080"/>
            <a:ext cx="659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Leptin</a:t>
            </a:r>
            <a:r>
              <a:rPr b="0" i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Humans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 (in normal conditions)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leptin increases metabolic rate &amp; decreases appet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Obese Humans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,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plasma leptin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s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normal for their fat m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dicating the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resistance to lept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Researches Concluded that: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Hypothamic receptors for leptin  is produced by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db 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Mutations of db gene</a:t>
            </a:r>
            <a:r>
              <a:rPr b="0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produces leptin resistance (experimentally in rod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BUT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not in most human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Ghre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peptide secreted primarily in the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only known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Appetite-stimulating hormone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sear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Injection of ghrelin in the rod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Increases 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ecreases energy expendi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ecreases fat catabol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Metabolic Syndrome </a:t>
            </a:r>
            <a:br>
              <a:rPr sz="4000"/>
            </a:b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(Insulin Resistance Syndrome or Syndrome X)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Insulin Resist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Hyperinsulinem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Glucose Intolerance (&amp; DM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Dyslipidemia (Low HDL &amp; Elevated VLD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Calibri"/>
              </a:rPr>
              <a:t>WITH SIGNIFICANTLY INCREASED RISK OF DEVELOP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Calibri"/>
              </a:rPr>
              <a:t>DM &amp; CARDIOVASCULAR DISOR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en with the syndrome are 3 – 4 times more likely to die from cardiovascular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Insulin resistance is the decreased ability of target tissues, such as liver, adipose tissue &amp; muscle to respond properly to normal circulating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Insulin resistance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increases with weight gain (overweight &amp; obesity) &amp; diminishes with weight loss (controlling overweight &amp; obe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Fat accumulation (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)  causes insulin resistance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-  Substances produced by fat cells as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leptin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&amp;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resistin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may contribut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development of insulin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Free fatty acids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elevated in obesity is involved in insulin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Insulin Res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In early stages of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with the absence of defect in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obese individuals can compens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for insulin resista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by increasing levels of secretion of insulin from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So, glucose levels in blood remain within normal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With time (late sta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become dysfunctiona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(due to fat cells substances , FFA &amp; hyperglycem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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fail to secrete enough insulin leading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Increased blood glucose levels (hyperglyce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Metabolic effects of obesity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:</a:t>
            </a:r>
            <a:br>
              <a:rPr sz="20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Insulin Resistance &amp; Hyperglycemia </a:t>
            </a:r>
            <a:r>
              <a:rPr b="0" i="1" lang="en-GB" sz="18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What is </a:t>
            </a:r>
            <a:r>
              <a:rPr b="1" i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GB" sz="3200" spc="-1" strike="noStrike" u="sng">
                <a:solidFill>
                  <a:srgbClr val="0e0ec2"/>
                </a:solidFill>
                <a:uFillTx/>
                <a:latin typeface="Calibri"/>
              </a:rPr>
              <a:t>Obesity is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Disorder of Body Weight Regulatory Systems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ccumulation of Excess body F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200" spc="-1" strike="noStrike" u="sng">
                <a:solidFill>
                  <a:srgbClr val="0e0ec2"/>
                </a:solidFill>
                <a:uFillTx/>
                <a:latin typeface="Calibri"/>
              </a:rPr>
              <a:t>Currently, Obesity is Epidemic as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Abundance of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Reduced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Dyslipid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nsulin resistance in adipose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auses increased activity of hormone-sensitive lipase (deactivated with insulin) result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in increased </a:t>
            </a:r>
            <a:r>
              <a:rPr b="0" i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free fatty acids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released in bloo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In the </a:t>
            </a:r>
            <a:r>
              <a:rPr b="0" i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liver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,  free fatty acids are converted to cholesterol &amp; triacylglycero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cholesterol &amp; triacylglycerol are released as </a:t>
            </a:r>
            <a:r>
              <a:rPr b="1" i="1" lang="en-GB" sz="1700" spc="-1" strike="noStrike">
                <a:solidFill>
                  <a:srgbClr val="0e0ec2"/>
                </a:solidFill>
                <a:latin typeface="Calibri"/>
              </a:rPr>
              <a:t>VLD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e0ec2"/>
                </a:solidFill>
                <a:latin typeface="Calibri"/>
              </a:rPr>
              <a:t>                                                              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w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Increased Blood Triacylglycerol &amp; Hyperchlosterol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                                         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with increased risk of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                      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Coronary Heart Diseases (CH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own Arrow 3"/>
          <p:cNvSpPr/>
          <p:nvPr/>
        </p:nvSpPr>
        <p:spPr>
          <a:xfrm>
            <a:off x="3643200" y="3000240"/>
            <a:ext cx="484200" cy="379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wn Arrow 4"/>
          <p:cNvSpPr/>
          <p:nvPr/>
        </p:nvSpPr>
        <p:spPr>
          <a:xfrm>
            <a:off x="3637080" y="3895560"/>
            <a:ext cx="484200" cy="382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5"/>
          <p:cNvSpPr/>
          <p:nvPr/>
        </p:nvSpPr>
        <p:spPr>
          <a:xfrm>
            <a:off x="3637080" y="5229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herif\Desktop\sherif.folder\Lippincot JPG pictures\c26\26_009.jpg"/>
          <p:cNvPicPr/>
          <p:nvPr/>
        </p:nvPicPr>
        <p:blipFill>
          <a:blip r:embed="rId1"/>
          <a:stretch/>
        </p:blipFill>
        <p:spPr>
          <a:xfrm>
            <a:off x="2571840" y="1682640"/>
            <a:ext cx="4000320" cy="5175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Dyslipid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Calibri"/>
              </a:rPr>
              <a:t>Obesity &amp; Heal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ff0000"/>
                </a:solidFill>
                <a:latin typeface="Calibri"/>
              </a:rPr>
              <a:t>Obesity i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a Risk Factor for Many </a:t>
            </a:r>
            <a:r>
              <a:rPr b="1" i="1" lang="en-GB" sz="2500" spc="-1" strike="noStrike" u="sng">
                <a:solidFill>
                  <a:srgbClr val="ff0000"/>
                </a:solidFill>
                <a:uFillTx/>
                <a:latin typeface="Calibri"/>
              </a:rPr>
              <a:t>Chronic Disea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Type 2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ypercholesterol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igh plasma level of triacyl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ypert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Coronary Heart Dis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Some Canc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Gallst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Arth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e0ec2"/>
                </a:solidFill>
                <a:latin typeface="Calibri"/>
              </a:rPr>
              <a:t>Biochemical Principles of 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Weight Re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600200"/>
            <a:ext cx="850104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GOALS of weight management in obese pati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</a:t>
            </a:r>
            <a:r>
              <a:rPr b="1" lang="en-GB" sz="2400" spc="-1" strike="noStrike" u="sng">
                <a:solidFill>
                  <a:srgbClr val="0e0ec2"/>
                </a:solidFill>
                <a:uFillTx/>
                <a:latin typeface="Calibri"/>
              </a:rPr>
              <a:t>induce negative energy balance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reduce body 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by decreasing caloric intake and/or increase energy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</a:t>
            </a:r>
            <a:r>
              <a:rPr b="1" lang="en-GB" sz="2400" spc="-1" strike="noStrike" u="sng">
                <a:solidFill>
                  <a:srgbClr val="0e0ec2"/>
                </a:solidFill>
                <a:uFillTx/>
                <a:latin typeface="Calibri"/>
              </a:rPr>
              <a:t>maintain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a lower body weight over a longer te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2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1- Physical 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Benefits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Increases cardiopulmonary fit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Reduces risk of cardiovascular diseases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(independent on weight los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Combination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Caloric Restriction + Exercise + Behavioural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s expec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Reduce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5 – 10 %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of weight over a period of 4-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hysical activity is essential for maintaining weight reduction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1- Caloric Restri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1 pound of adipose tissue (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bout 0.5 kg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) corresponds to about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3500 K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effective for a long term for many obese individu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More than 90% regain the lost weight after suspension of di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Benefits of caloric restr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Reduction of 10% of weight over a 6-month period of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Reduces Blood Press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Reduces Lipid level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Enhance Control of Type 2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1- Pharmacological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For BMI 30 or mo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1- Sibutramin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Appetite suppress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hibits serotonin &amp; norepinephrine reupt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2- Orlist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lipase inhibitor that inhibits gastric &amp; pancreatic lip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It inhibits digestion &amp; hence absorption of about 30%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iet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1- Surgical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ims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at reducing food 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Only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indicated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for severely obes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Wh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Obesit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1" i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Major Problem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600200"/>
            <a:ext cx="8501040" cy="475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The risk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ssociated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isease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has increased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-   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-    Cardiovascular diseases (atherosclerosis etc.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hildhood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( 3 fold increase in prevalence over the last  decades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Calibri"/>
              </a:rPr>
              <a:t>Assessment of Obes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Aim is to measure amount of body f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Direct measurement is difficu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Indirect measureme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Body Mass Index (BMI):  correlate with amount of body fat in most individu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    </a:t>
            </a:r>
            <a:r>
              <a:rPr b="1" lang="en-GB" sz="1400" spc="-1" strike="noStrike" u="sng">
                <a:solidFill>
                  <a:srgbClr val="0e0ec2"/>
                </a:solidFill>
                <a:uFillTx/>
                <a:latin typeface="Calibri"/>
              </a:rPr>
              <a:t>exceptions</a:t>
            </a: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: athletes : large amounts of lean muscle m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Weight in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BMI    =            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(height in met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less than 19.5     :   Under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19.5  – 25             :    Health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25 –    29.9           :    Over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30 or more          :     Ob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Anatomic Differences in Fat De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1599840"/>
            <a:ext cx="857232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Anatomic distribution of body fat has a major influence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associated health 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ndroid, Apple-Shaped or Upper Body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fat in central abdominal are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Waist   to  Hip     &g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1     in  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                   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&g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0.8   in  Wo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ommon in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m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Associated with a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greater risk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of hypertension, insulin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resistance, DM, dyslipidemia &amp; coronary heart disea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Gynoid, Pear-Shaped or Lower Body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fat in lower extremities around the hips or gluteal reg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Waist   to  Hip      &l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1     in  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                          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&l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0.8   in  Wo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Relatively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 benign health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ommon in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fem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sherif\Desktop\sherif.folder\Lippincot JPG pictures\c26\26_003.jpg"/>
          <p:cNvPicPr/>
          <p:nvPr/>
        </p:nvPicPr>
        <p:blipFill>
          <a:blip r:embed="rId1"/>
          <a:stretch/>
        </p:blipFill>
        <p:spPr>
          <a:xfrm>
            <a:off x="6000840" y="2643120"/>
            <a:ext cx="2736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Differences in Regional Fat De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1600200"/>
            <a:ext cx="8643960" cy="504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0000"/>
                </a:solidFill>
                <a:latin typeface="Calibri"/>
              </a:rPr>
              <a:t>Abdominal fat cells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: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Much larger than lower body fat cel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Higher rate of fat turn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Hormonally more responsiv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More in men: lose weight readily than wom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Substances released from abdominal fat (as free fatty acids) are absorbed via portal vein with direct access to the li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Free fatty acids from abdominal fat taken up by the liver may lead t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Insulin re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-  Increased synthesis of triacylglycerol , released from liver as VLDL --- LD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resulting in more possibility of hypertirglyceridemia &amp;   hypercholesterolem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ff0000"/>
                </a:solidFill>
                <a:latin typeface="Calibri"/>
              </a:rPr>
              <a:t>Fatty acids from gluteal fat enter the general circul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- With </a:t>
            </a:r>
            <a:r>
              <a:rPr b="0" i="1" lang="en-GB" sz="1900" spc="-1" strike="noStrike" u="sng">
                <a:solidFill>
                  <a:srgbClr val="0e0ec2"/>
                </a:solidFill>
                <a:uFillTx/>
                <a:latin typeface="Calibri"/>
              </a:rPr>
              <a:t>no</a:t>
            </a: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 preferential action on liver metabolis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70c0"/>
                </a:solidFill>
                <a:latin typeface="Calibri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43920" cy="928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Obesity &amp; Adipocytes (Number &amp; Siz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sherif\Desktop\sherif.folder\Lippincot JPG pictures\c26\26_004.jpg"/>
          <p:cNvPicPr/>
          <p:nvPr/>
        </p:nvPicPr>
        <p:blipFill>
          <a:blip r:embed="rId1"/>
          <a:stretch/>
        </p:blipFill>
        <p:spPr>
          <a:xfrm>
            <a:off x="3714840" y="1357200"/>
            <a:ext cx="4714920" cy="5500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928800" y="1428840"/>
            <a:ext cx="3286080" cy="5122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Obes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Arial"/>
              </a:rPr>
              <a:t>Increa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Arial"/>
              </a:rPr>
              <a:t>Increas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Number</a:t>
            </a:r>
            <a:r>
              <a:rPr b="1" lang="en-GB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Arial"/>
              </a:rPr>
              <a:t>of Adip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Body Weight Re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75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Each individual has a biologically predetermine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Natural Set Point</a:t>
            </a:r>
            <a:r>
              <a:rPr b="1" i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for body weigh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Around which body weight drifts (</a:t>
            </a:r>
            <a:r>
              <a:rPr b="0" lang="en-GB" sz="1800" spc="-1" strike="noStrike" u="sng">
                <a:solidFill>
                  <a:srgbClr val="0e0ec2"/>
                </a:solidFill>
                <a:uFillTx/>
                <a:latin typeface="Calibri"/>
              </a:rPr>
              <a:t>within 10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%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Reflects a </a:t>
            </a:r>
            <a:r>
              <a:rPr b="0" lang="en-GB" sz="1800" spc="-1" strike="noStrike" u="sng">
                <a:solidFill>
                  <a:srgbClr val="0e0ec2"/>
                </a:solidFill>
                <a:uFillTx/>
                <a:latin typeface="Calibri"/>
              </a:rPr>
              <a:t>balance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between factors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influence food intake &amp; energy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body attempts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Gain weight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when the body weight falls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below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set poi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Lose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weight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when the body weight is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higher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set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So, body weight i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stable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as long as the behavioural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nvironmental factors that influence energy balance are cons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sherif\Desktop\sherif.folder\Lippincot JPG pictures\c26\26_005.jpg"/>
          <p:cNvPicPr/>
          <p:nvPr/>
        </p:nvPicPr>
        <p:blipFill>
          <a:blip r:embed="rId1"/>
          <a:stretch/>
        </p:blipFill>
        <p:spPr>
          <a:xfrm>
            <a:off x="5715000" y="1714680"/>
            <a:ext cx="25718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Genetic Contributions to Obe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Genetic mechanisms play a </a:t>
            </a:r>
            <a:r>
              <a:rPr b="1" i="1" lang="en-GB" sz="2200" spc="-1" strike="noStrike">
                <a:solidFill>
                  <a:srgbClr val="0e0ec2"/>
                </a:solidFill>
                <a:latin typeface="Calibri"/>
              </a:rPr>
              <a:t>major role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in determining body we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Obesity is observed </a:t>
            </a:r>
            <a:r>
              <a:rPr b="1" i="1" lang="en-GB" sz="2200" spc="-1" strike="noStrike">
                <a:solidFill>
                  <a:srgbClr val="0e0ec2"/>
                </a:solidFill>
                <a:latin typeface="Calibri"/>
              </a:rPr>
              <a:t>clustered in famil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Examples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f both parents are obese  :  70-80% chance of the children being obese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f both parents are lean     :  9% ch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dentical twins: have very similar BMI (more similar than nonidentical dizygotic twi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Calibri"/>
              </a:rPr>
              <a:t>Inheritance of obesity</a:t>
            </a:r>
            <a:r>
              <a:rPr b="0" lang="en-GB" sz="2900" spc="-1" strike="noStrike">
                <a:solidFill>
                  <a:srgbClr val="ff0000"/>
                </a:solidFill>
                <a:latin typeface="Calibri"/>
              </a:rPr>
              <a:t>: - </a:t>
            </a:r>
            <a:r>
              <a:rPr b="1" i="1" lang="en-GB" sz="2900" spc="-1" strike="noStrike">
                <a:solidFill>
                  <a:srgbClr val="ff0000"/>
                </a:solidFill>
                <a:latin typeface="Calibri"/>
              </a:rPr>
              <a:t>Complex Polygenic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Interaction between </a:t>
            </a:r>
            <a:r>
              <a:rPr b="1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multiple genes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&amp; </a:t>
            </a:r>
            <a:r>
              <a:rPr b="1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NOT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simple Mendelian genetics </a:t>
            </a:r>
            <a:r>
              <a:rPr b="1" lang="en-GB" sz="1900" spc="-1" strike="noStrike">
                <a:solidFill>
                  <a:srgbClr val="0e0ec2"/>
                </a:solidFill>
                <a:latin typeface="Calibri"/>
              </a:rPr>
              <a:t>(not single gene disorder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5:00:19Z</dcterms:created>
  <dc:creator>sherif</dc:creator>
  <dc:description/>
  <dc:language>en-US</dc:language>
  <cp:lastModifiedBy>ALWALY</cp:lastModifiedBy>
  <dcterms:modified xsi:type="dcterms:W3CDTF">2013-10-13T09:33:56Z</dcterms:modified>
  <cp:revision>257</cp:revision>
  <dc:subject/>
  <dc:title>OBESITY</dc:title>
</cp:coreProperties>
</file>